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4AE-7CCD-4F0F-B35F-7EE5FF42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54B-CCD1-45CA-8DCD-3E9ECAB7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7259F-313C-4881-BE60-481B1F77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469BC-ABC9-491E-AD22-8DC35A77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9F3B0-6FAF-4A0B-A268-8A007B04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14658-34DD-40BB-A8D5-36E434B9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E6CCD-0D3E-4CBA-92F9-CF77037B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BBEC8-BC72-408E-A2F9-D3A369A4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36EB7-3DF7-4909-A1FE-7FA7A15E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30278-525D-4D0F-8B06-7B602E3E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550EE-FE0A-487C-92C7-AC482BF9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04ED5-5736-4C19-B6D1-EF86DA75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AF9-786C-43AC-936F-21B9B3F5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D10EC-71ED-4976-91B9-9B6B4861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6CF85-0885-4FA2-A51C-E3E07618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702A5-167F-4BF5-82D6-950C2A8D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0FBD2-A312-4FA8-99DF-28F87526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20B62-9A86-492B-BC0A-1B49F0BD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E5B52-04DE-42DF-AD6F-1493BFA7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CEA33-9FF9-4792-9A95-C2BE8E3A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776F1-D974-4DAF-9D7A-D2CA8D7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4E7C3-F6CF-44C8-8AC5-84B4B06F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8D327-64DB-4A72-A0F7-C4B1BCCF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DCC-1A48-4458-B3D8-036A739B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7BA5B-B890-4563-A249-01488CE3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0F7E7-D0FA-461E-9C36-B502D7C6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4B8E2-98BF-4F83-B68F-AC104C98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1405E-1F99-4919-8BB6-E16FBD28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DB7E0-4F62-4A7D-9A69-41B6B96D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956F3-6885-412D-BFC2-FDE6814B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9D24D-BF30-4DD1-AAED-C428E546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FA6D7-9C7F-4B95-AE40-FBC2791E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2E9D6-776C-4FF3-AFA3-0203B051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E2C08-4806-4BE3-BD05-1C57E1B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3D61-859B-4F5B-91F6-EADBFF1A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4D8C6-0027-4AE0-B709-F200BA4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DC947-6C4E-4D28-A24E-BFDB81B0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0719-E792-46E7-882A-E0774FBB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1C132-9213-472A-AD29-D4890EFA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7506A-CE2C-48B6-AB02-FCEB4BC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A8617-4040-4FE2-9F0E-A219F5E7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E43E2-FB8E-4782-87B7-643B84AA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73675-B1C7-4504-8E54-97A1815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F0EDB-18C2-46A9-AA7B-2469ACDA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8815E-E773-40DC-8B48-22FCD0B8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58E7-3373-4A49-8444-EE4C12C6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614C9-4BFD-4A9D-B103-409BD571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5949F-58CD-4271-A0C7-37D16953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85142-6731-4AD9-B556-BA132855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166AD-D79B-435E-B8F6-47CC24E7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716C6-B4DC-42E6-8B07-17F3207C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EF232-11C8-47E7-A19D-FFC478CD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2E819-487A-43B6-AC94-0F27AB4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795C0-E8E2-4E21-96C2-6C9D49E2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99CF0-9066-40F1-8D9F-DBE429C1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8FC19-4751-45B6-BB7C-8DBD279A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0DEC-B2D5-470C-A740-20912F27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2E09F-6B14-4DB2-941D-E799923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232BF-2FF3-4F27-9DE7-B8E472C7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36D22-9E98-4660-9CD9-E545E74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A56E3-5F74-4AAE-9EE3-213F9E0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0A1AD-EEE4-4B18-9F64-6437E976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D9350-9200-4FE3-9FA1-4F4B119C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4F312-49FC-46D2-9A35-E36D6AA3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21C5D-0960-4222-BEFF-D39BCC02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421FF-F5A6-407D-A130-C464BF50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5C783-CF71-47B6-8A57-A42CC455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3815-7C7C-4647-BD5A-4F8D674C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EE077-71A4-4F6E-AE45-3F2BD1FE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68536-76DC-4B5B-9680-6EE9FF95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CB74A-FB36-4549-8474-F9EC74D4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18D01-1759-4614-A743-33091AD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5FA4C-2C96-483B-A474-9BCD6D1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BDA9F-9A53-4931-B570-FC4F0FB1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3BE44-023C-4F46-99C6-E9A8394A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E4FDF-6F0D-42BB-8D1D-8CCC4312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CCD37-D21D-4BF0-8D89-75B0A4D2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694E9-377E-461B-B0FB-B8BCF22D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3CBD-C550-4C8C-9D6B-80E49A31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90B0A-2CC9-4CB6-9C71-32132DCE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17C96-D9DA-4774-8EC4-9649726D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20F0D-FE23-4701-BA92-5573A376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13A69-A9D6-4FE1-88BA-9A46E9D5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C9B48-43E0-4C40-9723-D0E1BC6A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067A7-AD4A-4505-955A-E31294D3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7BC82-C47F-4B7F-87B8-BB16FD86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A3B5D-2DCB-434A-95F3-17E2F28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435EDA-4722-43FF-A4C1-AC320E93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E15CC-52D8-494E-9264-86340A80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A744-30F3-4C91-93EA-57C371C2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785F5-EFBF-4FD7-810F-3150C28D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BB182-A8CA-44FA-B823-08536E0E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80A44-A3CB-44FA-BBFE-2B3BDDBF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907C5-BF0E-4823-8E9E-7A82B591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EEF08-5592-4ED2-8C07-119E65C8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2A14C-B79A-4096-8C25-BC46C98A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2B9E14-A31C-4FB2-B46F-45AFA003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B11AE9-CE5C-4129-A9D4-EC0BD404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A8080-C330-4A06-9140-658BECDA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2E0E4-E383-42FF-B074-C1131378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F7D7-B277-43E0-9BB7-0FD0B959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1B5EF7-E114-409D-B9D2-AB956F46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47FD7-35AB-415E-A853-51703D7C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FE6A3-62C5-4FF1-9C9A-C897CBE4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67F28-52BA-4AD7-81C8-76712FDF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366ABE-91F6-4D96-A3E6-44CFD5C5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EA4F7-A88A-49FB-9037-D2AC211E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7801D9-65A1-41F9-AE9E-FD60AA24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7A6A5-A1BA-4D8C-8495-6B25460D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EBF47-9CA3-4175-9DFE-5133D45F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CC60C-D0F1-4818-B2EF-98F32D29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72B-CCA5-4B77-8741-6376ACD9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D79B-B4C4-499D-B0C9-117CF22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2A09A2-7C25-4D00-9E53-CBD859C5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7200E-4D0D-4E3B-BDC9-047BCD34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5E517-002E-41F6-9DCA-B18541AC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F995F-6EFC-4494-8240-0085ADF1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11908-9BF5-4D7E-8FFD-36C8D709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99BC6-2D30-483C-9D97-0F5C15BA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5B63C2-7DAF-46A1-9DD7-B88439E4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61ACF-CCF7-4D94-8B27-4BDC5B8A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580B0-F5D3-415E-AE42-3E15BAB8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946E1-1307-4C0C-8B57-7D0A9AEE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3DDB-18BC-4ABB-A389-F8DF36C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465EB-1CF6-4616-9A66-F0F1CDE8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F7870-A641-46C9-8355-3C2ADAA2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88F285-6AD4-4810-9615-B0FADBD7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C2615-2545-4260-8DDC-DFED1886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F87F44-11A0-4463-BBDE-64670801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28AC4-9673-4675-A157-652CA794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C1074-3DC7-4890-8FD1-74715294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7236F-D217-45CB-B54F-401B7F03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BB8C7-F1F2-4347-86D8-3ECA8E8A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9D7570-EAC1-4618-A59C-4ACC8370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009C-795B-485D-A1C8-DDD189CC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2A99F7-4C4D-4F31-9CFF-8806B93F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B29CF6-3514-404B-BBA9-E90C861D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70E2DA-64B5-45B8-BC5F-5BE87B16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32E02-DD8F-45BE-9114-B648FEFF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5B3A93-371F-4863-917A-EA434A62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66C4A-0C45-4A02-B237-FA4262E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BD6649-3256-491F-9B22-77D7E3BC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3DB99-6E32-4A94-9EEB-54436B91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F31247-7EEA-4E22-9592-F4999792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022DB7-054F-444B-BF23-994B6287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2EB5-997C-4D24-8AB8-C34FDEF0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DF599-6824-4342-940C-24FA35B3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AD77F8-E1F7-4CE0-8D7F-5CEC01CD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3F9B26-A8A0-4B23-9243-19E61E79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7D87F6-88A5-4B3B-B971-E2966CF6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C8C54C-5752-4464-A5A0-E49BCA4F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97EB84-38E9-409F-8273-CAC1DEC5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109E16-8147-4C3B-AA90-A23BCBC0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04AD33-82B8-4CF2-9307-FD45BBF9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80A79-8372-4715-B6F4-445B1FD9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1AA8D2-AC47-43D8-9334-C23CC772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A6EA-8ABC-4F4D-AD3D-E05778A5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FA1836-0134-4D96-96F8-28BD59FE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2E31C-C903-4237-820B-C9AD4A7E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1ABD9-C4B0-401F-98F2-8D275CAD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99B16-B3C1-4574-8B6F-DE2F224E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57173-38C4-46D8-955F-9D29D318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10F156-5055-4EA3-A9EE-58FA9C9B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33EA8-7B57-48A5-A2EC-54725FCF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F9FC3-0078-4C8E-9E3E-5BA9DAC7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052146-6983-4F43-9675-5E550E0E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559B3-E0B4-4E24-B131-F4423C58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99FF-10B9-49FD-AD29-E9450057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B341E-0654-40F6-BB7C-2E776954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16985E-82E2-4020-88D4-D05EB723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B86C46-6D66-44CC-B245-40C47ED6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BE77-1750-4E48-8FE1-28CD2FCC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6977-8431-4C6F-9C31-E3EC68C1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1B4A-2304-4850-B23A-1D6D1FE3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FDF17-2CF1-4D21-A17C-F1C54FA8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FF5-13DD-4A11-95B3-0725B318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D6CD-1886-471E-ACC6-AB87593D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8661-2126-4F7B-AC1B-D078BDC7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F66F-80DC-4E5E-B122-6B1716E6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D812-D12B-4FB6-A76C-E4FDA087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51B2-7DED-4821-BDE9-FE16F07E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7F08-3274-4176-908F-FED80E05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D966-39A8-46F7-90CF-5B14AFF0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8D26-56EE-4176-970E-710FAAFB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EFA9-92D1-44F3-9249-D1E658F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681B-10B8-4175-890E-9CD9B34E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316-3D03-4816-9D30-C3FB2D22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D8F42-5A94-400F-A26F-D3EF5E4F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6FB0F-8AF3-4DA4-9314-FA49209F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834B-7D04-48A9-A335-3FD90523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C085-1D19-4D54-B2A3-AA79FD2F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70F3-2E0B-4D11-AE89-CFC42A5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DA6E0-563A-4BA2-BE35-32048FC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55D8-4A0D-4B12-8B98-D19FE333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E88CA-418B-415A-8C88-AE713221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F0E0-7638-4EDC-907A-FFDC6496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B69E0-4F21-47E6-A8A2-0B9B40D5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EC2-951D-40F7-9FED-26B2C244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F2F92-3C48-4C0C-9984-D8094F8B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7833D-897B-4BF3-8C97-8DB19636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A9C6F-3CD2-4DFB-8CB0-9E49C18F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75ED7-46B7-4F42-8269-4C23CB37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7CF29-303F-451B-8929-A24C4AB5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4178-1F3A-4C5B-8BFD-21B9B8F9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3EAF9-FEAF-4DA2-8D6D-295B2D68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1FB64-E4B6-4877-B7BD-2D6F61B7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CBBDF-E116-4792-A427-0498A72F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BD02A-4CA4-4DCC-924E-772D36FA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C81-B058-4EC8-A318-4C1A4E2F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74B2C-6F62-46AC-8149-A3A315E2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4735F-08F9-4BDA-B183-08860936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423BB-198F-4016-9421-D111D450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B5AF-E271-4A8B-BC17-46959110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DA920-DDA7-46C9-965E-A4C8319C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32F53-5252-42D6-9D53-0722B8AC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74B93-0C8E-44C7-8927-1658016E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03DF6-1FAA-49B8-A893-47C4E8B2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2DA6F-607D-4352-AC3F-05C75E9D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F0326-3146-44DC-892D-AAA7BF94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DF9-598F-47CE-85E9-204590E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EC173-2745-460A-AA0B-AD95106F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65487-2C8C-45BE-A2C8-74D66709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1108A-2520-42B7-813C-F3530F03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344E5-331B-4DA8-9D03-820925D2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54919-CB4D-43B3-A76C-81AB95FC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E2FA3-9A64-401C-97F1-BB08AB64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E8483-31C2-4547-A280-92336894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83045-09A0-48BA-84BB-1A386555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D91D2-629E-4F52-8B13-DFD87EB8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BB593-B17B-45C4-9F1B-454249F4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9B3-AB25-4216-9657-539497BD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3D9EB-FC94-42B2-81C1-2F1DCFB9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922B4-A419-4918-BD0B-9EEE50D9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5D37F-FAC8-4048-9EAE-1A12EBF4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32D2D-2E6E-4769-8FDE-7EE8449F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6D321-C92C-42F0-986B-748A6B24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9D96B-0C28-4736-A10A-A74EFB78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CBE0D-17C8-4506-8FA9-FF00B577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2B7B9-5015-4D5C-A701-1D98FA50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2C56A-430C-4F80-942C-3FFA8A8E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BC52C-C313-4CAE-8F9B-BDBB3840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7C8-2BA5-4DAC-8638-7E6F7E70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58AE3-9AC5-447A-9A16-E54F8D2D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08E7D-43A8-4BE1-B994-B996E6FD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EDA47-F3A4-406F-9509-83F88196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3E4B6-AD78-4234-88DE-B44E049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A492F-9057-4CE7-B184-B61966B3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01F0E-200C-4F16-9248-F36D38B9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CDCF3-617A-4C90-B6C7-BE5276D9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73B72-1DDE-402E-A43E-F2680761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A90EA-6BE1-4F59-8B0F-B698AA91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34651-BC78-4FDC-B475-933C2C3D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BA63-D5DE-4C2F-B0E7-10098116B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2CBB-70DC-4015-A9E1-7437A0C533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DFC9-6A5D-4977-8A0B-60BFF5FD8E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2F96-8E23-40FF-9E62-64D938DB27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C49E-4B35-43E9-8283-FEF392B8FC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3693-8E65-4526-961A-F12673297A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A6CE-7413-46D0-80EC-7D673833EA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96E4-D830-4198-99C0-E87875B0D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4FA4-8E2E-46AF-80A4-CE99075A69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E0AD-2C19-499B-AD33-039878AB0A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895D-C500-487A-B455-9D67EC90E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AE39-DA99-4EF1-B177-424CDE7A89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E790-059B-489F-8D1D-5A573865E2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D09F-BC84-4B8B-BF3A-CB887179E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B461-73C9-4811-9451-061A454DAA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BFBC-18D9-49A0-910F-5C41B58DE7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D52C-FB64-48E7-BF43-7B04E27EA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5405-C1FB-4577-BA23-2BF55D8B03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61A0-16C3-4891-A658-CBB1533BE5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9525-9FDF-49E2-A988-EAE75BB865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6682-013D-4C6B-8422-F54407DCAD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A884-00CF-4C39-A470-9B2EF006EC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B075-F05C-480E-B695-8B816C482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5464-004D-45EC-B9BB-1B286EBA41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1F97-DBED-44D3-B657-2FD239C5B3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586D-F3B2-401A-8BCE-A2200818C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12C2-C56B-41C6-A87A-6F2DC7C78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836A-2141-4E65-9BF2-1E230A41B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8B8E-F505-46E7-B299-C261C51577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6F84-54E7-45B1-8D96-0E8BB7AABF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D417-28DB-41D8-BB5C-FC0CA4F19E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8F5C-F0EF-4F79-9BAD-F175DF9F43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FDA6-FBE0-41E5-B3AB-52B4062F5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597C-160A-49B9-863D-7D481D5DBA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C048-E5B9-4FE7-BCE9-4B77351BFC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6574-5CD1-4885-AEF4-F9A5A62DCF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DCA3-5C8F-4A3D-A0FC-932FB31B54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57DF-0F57-4D9C-977D-E465B62B65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BD5E-5EC6-4D68-AAA0-EADDFB4395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7107-23EA-4B78-9C0D-61C13089F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542960" y="3076560"/>
            <a:ext cx="60580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52360" y="1152360"/>
            <a:ext cx="8637480" cy="4553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71640" y="1671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364000" y="1671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971640" y="2233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435640" y="2205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042920" y="2795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042920" y="3716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971640" y="4091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971640" y="4522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1042920" y="49118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1042920" y="53150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42840" y="1800360"/>
            <a:ext cx="9056880" cy="3257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619280" y="4567320"/>
            <a:ext cx="865080" cy="320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3708360" y="4581360"/>
            <a:ext cx="865080" cy="320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5869080" y="4581360"/>
            <a:ext cx="865080" cy="320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869240" y="4581360"/>
            <a:ext cx="8650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138240" y="871560"/>
            <a:ext cx="8866080" cy="511488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6146" descr=""/>
          <p:cNvPicPr/>
          <p:nvPr/>
        </p:nvPicPr>
        <p:blipFill>
          <a:blip r:embed="rId2"/>
          <a:stretch/>
        </p:blipFill>
        <p:spPr>
          <a:xfrm>
            <a:off x="611280" y="1370160"/>
            <a:ext cx="539640" cy="50616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6147" descr=""/>
          <p:cNvPicPr/>
          <p:nvPr/>
        </p:nvPicPr>
        <p:blipFill>
          <a:blip r:embed="rId3"/>
          <a:stretch/>
        </p:blipFill>
        <p:spPr>
          <a:xfrm>
            <a:off x="3865680" y="1355760"/>
            <a:ext cx="539640" cy="50652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6148" descr=""/>
          <p:cNvPicPr/>
          <p:nvPr/>
        </p:nvPicPr>
        <p:blipFill>
          <a:blip r:embed="rId4"/>
          <a:stretch/>
        </p:blipFill>
        <p:spPr>
          <a:xfrm>
            <a:off x="6948360" y="1355760"/>
            <a:ext cx="540000" cy="50652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6149" descr=""/>
          <p:cNvPicPr/>
          <p:nvPr/>
        </p:nvPicPr>
        <p:blipFill>
          <a:blip r:embed="rId5"/>
          <a:stretch/>
        </p:blipFill>
        <p:spPr>
          <a:xfrm>
            <a:off x="611280" y="2952720"/>
            <a:ext cx="539640" cy="50652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6150" descr=""/>
          <p:cNvPicPr/>
          <p:nvPr/>
        </p:nvPicPr>
        <p:blipFill>
          <a:blip r:embed="rId6"/>
          <a:stretch/>
        </p:blipFill>
        <p:spPr>
          <a:xfrm>
            <a:off x="3879720" y="2952720"/>
            <a:ext cx="540000" cy="50652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6151" descr=""/>
          <p:cNvPicPr/>
          <p:nvPr/>
        </p:nvPicPr>
        <p:blipFill>
          <a:blip r:embed="rId7"/>
          <a:stretch/>
        </p:blipFill>
        <p:spPr>
          <a:xfrm>
            <a:off x="6934320" y="2952720"/>
            <a:ext cx="539640" cy="50652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6152" descr=""/>
          <p:cNvPicPr/>
          <p:nvPr/>
        </p:nvPicPr>
        <p:blipFill>
          <a:blip r:embed="rId8"/>
          <a:stretch/>
        </p:blipFill>
        <p:spPr>
          <a:xfrm>
            <a:off x="625320" y="4551480"/>
            <a:ext cx="540000" cy="50616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6153" descr=""/>
          <p:cNvPicPr/>
          <p:nvPr/>
        </p:nvPicPr>
        <p:blipFill>
          <a:blip r:embed="rId9"/>
          <a:stretch/>
        </p:blipFill>
        <p:spPr>
          <a:xfrm>
            <a:off x="3865680" y="4537080"/>
            <a:ext cx="539640" cy="50652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6154" descr=""/>
          <p:cNvPicPr/>
          <p:nvPr/>
        </p:nvPicPr>
        <p:blipFill>
          <a:blip r:embed="rId10"/>
          <a:stretch/>
        </p:blipFill>
        <p:spPr>
          <a:xfrm>
            <a:off x="6934320" y="4537080"/>
            <a:ext cx="539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2" descr=""/>
          <p:cNvPicPr/>
          <p:nvPr/>
        </p:nvPicPr>
        <p:blipFill>
          <a:blip r:embed="rId2"/>
          <a:stretch/>
        </p:blipFill>
        <p:spPr>
          <a:xfrm>
            <a:off x="69840" y="1187280"/>
            <a:ext cx="9004320" cy="46800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7172" descr=""/>
          <p:cNvPicPr/>
          <p:nvPr/>
        </p:nvPicPr>
        <p:blipFill>
          <a:blip r:embed="rId3"/>
          <a:stretch/>
        </p:blipFill>
        <p:spPr>
          <a:xfrm>
            <a:off x="898560" y="3573360"/>
            <a:ext cx="1441440" cy="44460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7173" descr=""/>
          <p:cNvPicPr/>
          <p:nvPr/>
        </p:nvPicPr>
        <p:blipFill>
          <a:blip r:embed="rId4"/>
          <a:stretch/>
        </p:blipFill>
        <p:spPr>
          <a:xfrm>
            <a:off x="3116160" y="3573360"/>
            <a:ext cx="1441440" cy="44460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7174" descr=""/>
          <p:cNvPicPr/>
          <p:nvPr/>
        </p:nvPicPr>
        <p:blipFill>
          <a:blip r:embed="rId5"/>
          <a:stretch/>
        </p:blipFill>
        <p:spPr>
          <a:xfrm>
            <a:off x="5335560" y="3587760"/>
            <a:ext cx="1441440" cy="44460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175" descr=""/>
          <p:cNvPicPr/>
          <p:nvPr/>
        </p:nvPicPr>
        <p:blipFill>
          <a:blip r:embed="rId6"/>
          <a:stretch/>
        </p:blipFill>
        <p:spPr>
          <a:xfrm>
            <a:off x="7580160" y="3587760"/>
            <a:ext cx="1441440" cy="4446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7176" descr=""/>
          <p:cNvPicPr/>
          <p:nvPr/>
        </p:nvPicPr>
        <p:blipFill>
          <a:blip r:embed="rId7"/>
          <a:stretch/>
        </p:blipFill>
        <p:spPr>
          <a:xfrm>
            <a:off x="900000" y="5388120"/>
            <a:ext cx="1441440" cy="44424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7177" descr=""/>
          <p:cNvPicPr/>
          <p:nvPr/>
        </p:nvPicPr>
        <p:blipFill>
          <a:blip r:embed="rId8"/>
          <a:stretch/>
        </p:blipFill>
        <p:spPr>
          <a:xfrm>
            <a:off x="3116160" y="5388120"/>
            <a:ext cx="1441440" cy="44424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7178" descr=""/>
          <p:cNvPicPr/>
          <p:nvPr/>
        </p:nvPicPr>
        <p:blipFill>
          <a:blip r:embed="rId9"/>
          <a:stretch/>
        </p:blipFill>
        <p:spPr>
          <a:xfrm>
            <a:off x="5346720" y="5388120"/>
            <a:ext cx="1441440" cy="44424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7179" descr=""/>
          <p:cNvPicPr/>
          <p:nvPr/>
        </p:nvPicPr>
        <p:blipFill>
          <a:blip r:embed="rId10"/>
          <a:stretch/>
        </p:blipFill>
        <p:spPr>
          <a:xfrm>
            <a:off x="7562880" y="5402160"/>
            <a:ext cx="14414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71280" y="1990800"/>
            <a:ext cx="8999640" cy="2876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82692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88596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5"/>
          <a:stretch/>
        </p:blipFill>
        <p:spPr>
          <a:xfrm>
            <a:off x="82692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6"/>
          <a:stretch/>
        </p:blipFill>
        <p:spPr>
          <a:xfrm>
            <a:off x="900000" y="44514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561960" y="2000160"/>
            <a:ext cx="8020080" cy="28576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2"/>
          <a:stretch/>
        </p:blipFill>
        <p:spPr>
          <a:xfrm>
            <a:off x="1332000" y="2506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5"/>
          <a:stretch/>
        </p:blipFill>
        <p:spPr>
          <a:xfrm>
            <a:off x="1258920" y="3990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6"/>
          <a:stretch/>
        </p:blipFill>
        <p:spPr>
          <a:xfrm>
            <a:off x="1258920" y="4437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1" descr=""/>
          <p:cNvPicPr/>
          <p:nvPr/>
        </p:nvPicPr>
        <p:blipFill>
          <a:blip r:embed="rId2"/>
          <a:stretch/>
        </p:blipFill>
        <p:spPr>
          <a:xfrm>
            <a:off x="1200240" y="1986120"/>
            <a:ext cx="6743520" cy="28857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3"/>
          <a:stretch/>
        </p:blipFill>
        <p:spPr>
          <a:xfrm>
            <a:off x="205092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4"/>
          <a:stretch/>
        </p:blipFill>
        <p:spPr>
          <a:xfrm>
            <a:off x="1979640" y="3011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5"/>
          <a:stretch/>
        </p:blipFill>
        <p:spPr>
          <a:xfrm>
            <a:off x="2050920" y="3514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6"/>
          <a:stretch/>
        </p:blipFill>
        <p:spPr>
          <a:xfrm>
            <a:off x="205092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7"/>
          <a:stretch/>
        </p:blipFill>
        <p:spPr>
          <a:xfrm>
            <a:off x="2050920" y="450864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4:14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